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6C19-651F-4E5A-A0E2-9336C2C6D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1F0C-1ABE-44A0-9969-3163D72F2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1070-55F5-4950-94AA-8D3992F76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517B-EB24-41A9-9E59-893C71953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3997-1471-451E-B460-C10BC6A29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C739-5026-4C4E-92A9-7166DF42B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B7DC-C1A1-46EB-B6FD-C3948A5B1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2BA4-F76D-495D-B731-43FC7ADD7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6C78-D109-4888-BC7A-21693ED5A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D864-7203-445D-9789-971819B41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9FA1-D836-406D-ACA1-20D32B672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7BEF-787E-4E4C-8FB6-004F5B22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4E40C-B88D-4F82-B7AD-2AFA15A8E8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aia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400800" y="5335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28600" y="388620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629400" y="4572000"/>
            <a:ext cx="1793880" cy="17938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ac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re was never a good war or a bad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eac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"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enjamin Frank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666880" y="3733920"/>
            <a:ext cx="3732480" cy="236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898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ar would end if the dead could return." Stanley Baldw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600200" y="2666880"/>
            <a:ext cx="3143160" cy="327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"In peace sons bury fathers, but war violates the order of nature, and fathers bury sons." - Herodo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43000" y="3581280"/>
            <a:ext cx="5486400" cy="28400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ac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"If t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uman rac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wishes to have a prolonged and indefinite period of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aterial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prosperity, they have only got to behave in a peaceful and helpful way toward one another."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inston Churchi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095880" y="4572000"/>
            <a:ext cx="1524240" cy="182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"I prefer the most unfair peace to the most righteous war."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105520" y="4038480"/>
            <a:ext cx="2306520" cy="24814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must come to see that peace is not merely a distant goal that we seek, but a means by which we arrive at that goal. We must pursue peaceful ends through peaceful means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Martin Luther King, Jr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3360" y="0"/>
            <a:ext cx="9720" cy="9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3360" y="0"/>
            <a:ext cx="9720" cy="9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3352680" y="4724280"/>
            <a:ext cx="1979640" cy="1952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6400800" y="4876920"/>
            <a:ext cx="1898640" cy="1422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13:33Z</dcterms:created>
  <dc:creator>Vanessa Collier</dc:creator>
  <dc:description/>
  <dc:language>en-US</dc:language>
  <cp:lastModifiedBy>Joni George</cp:lastModifiedBy>
  <dcterms:modified xsi:type="dcterms:W3CDTF">2010-04-13T21:03:39Z</dcterms:modified>
  <cp:revision>8</cp:revision>
  <dc:subject/>
  <dc:title>Isaiah</dc:title>
</cp:coreProperties>
</file>